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2.wmf" ContentType="image/x-wmf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5.gif" ContentType="image/gif"/>
  <Override PartName="/ppt/media/image7.jpeg" ContentType="image/jpeg"/>
  <Override PartName="/ppt/media/image8.gif" ContentType="image/gif"/>
  <Override PartName="/ppt/media/image13.gif" ContentType="image/gi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62A7-FC51-49E1-855D-ABD111D88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“what are some animals that could move seed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eeds give us new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irst part of a plant, that we’re going to talk about today, is a plant’s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oo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lle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“who can tell me what brought the water and food into the stem, that we just talked ab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m al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stem ev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de is the actual leaf pa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ave real leaf for vis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tiole is: The part that joins the leaf of a plant to the main ste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how on vis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dash 1 on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dash 2 on bullet poi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all say Photosynthesis toge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-synth-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peat until children can say reasonably w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sis is the process that a plant uses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in carbon dioxide (everyone say “carbon dioxide”), a green coloring called chlorophyll (everyone say “chlorophyll”), nutrients from soil, and they all mix with sunlight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 allows plants of every shape and size to grow and be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s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llows plants to eventually make more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more plants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ing poll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tell me what pollination i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oving of the pollen from the anther to the stig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helps fertilize the flower and then makes more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n tell me what flowers attract?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uit of a flower i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bullet poi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ies and protect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“what other things, like the strawberries on this slide, are fruit?” (acorns, kiwi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efer often to their fill-in-the-blank worksheet; having them fill it out along with yo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814-C97C-4F99-9022-198B0162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8B1F-16BA-41AD-AAC1-EF30A124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D03-8216-40CC-A4E6-5C55DCAC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08B-9ED6-4650-89FB-574150AC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208E-4790-4B12-9518-38893CB6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916F-4469-4F1D-9E38-46BE2110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327-8E61-4A88-A89D-8D5ECE4C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C98-0F81-4B3E-830B-36A43FA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363-5F5B-4BBF-B9B8-5949FC64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D361-F6C3-4EBF-9BD9-F9F8544C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97BE-0322-4C23-9616-9BB5DBB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C2C-2EDD-4ACD-9F0C-2EDE094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85D9-5430-4657-AD61-6C093DB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12B5-121E-49D5-80C8-F251F97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E649-2F2F-40D7-B563-86B17E01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028-C308-4619-9AD4-A7169F1E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A5E4-702E-457E-A5A3-1AEF941D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D51-CE9F-4683-A35F-B9645F96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DC3-29B3-44BB-82B6-E29EA358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DD1-90A1-4991-B028-CA8FA99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831-C308-4DAE-9236-FBC863E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5C9-0034-4177-A398-1F9A37A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8C0-8CB1-435C-852D-11C3AD76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01C-DE84-459F-95D1-27DF46D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5E3-AE46-4801-805C-186D89062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B04B-8B81-4E1F-95E6-305FF7A5A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rbanext.uiuc.edu/gpe/index.html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66"/>
                </a:solidFill>
                <a:latin typeface="Tahoma"/>
              </a:rPr>
              <a:t>How Plants Grow</a:t>
            </a:r>
            <a:endParaRPr b="0" lang="en-US" sz="9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s. Hud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Some, pictures, animations, and facts from: http://www.urbanext.uiuc.edu/gpe/case1/c1facts3e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eed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95320" y="243828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eds are a plant's way of getting from one area to another by either wind, water or animal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eed allows the plant to reproduce after it is fer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eds= new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0100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6765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Growing Our Own Plants</a:t>
            </a:r>
            <a:endParaRPr b="0" lang="en-US" sz="6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One: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pace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ke sure plants have the room to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ke sure plants have a big enough po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18367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Two: temperature 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to be in the right tempera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now where your plant is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ost plants like cooler tempera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52480" y="2666880"/>
            <a:ext cx="13082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Three: light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good light to make food and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Vary light depending on pl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ut closer or farter away from a window for less or more 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2666880"/>
            <a:ext cx="16095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Four: water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need water to make food and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o much water= dead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ot enough water= dead pl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eep plants soil moi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Five: air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take in carbon dioxide to make fo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bon dioxide= what people breath 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lants release oxygen- what people breath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10160" y="2816280"/>
            <a:ext cx="2643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Six: nutrient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right amount of nutrients can be already in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You can use fertilizer: helps above ground growth, production of flowers and seeds, fight off disease, and keep plants str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47600" y="3086280"/>
            <a:ext cx="28576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p Seven: time</a:t>
            </a: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nal step to growing pla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Give the plant time to gr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ifferent plants will take grow at different rat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2590920"/>
            <a:ext cx="23526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omputer Activity: The Great Escape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95320" y="2438280"/>
            <a:ext cx="4038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Go to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urbanext.uiuc.edu/gpe/index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on the mysteries link at the bottom of the p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d then click on “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hat are the parts of plants?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58671" t="0" r="28000" b="3281"/>
          <a:stretch/>
        </p:blipFill>
        <p:spPr>
          <a:xfrm>
            <a:off x="2133720" y="3429000"/>
            <a:ext cx="16002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Tahoma"/>
              </a:rPr>
              <a:t>Parts of a Plant</a:t>
            </a:r>
            <a:endParaRPr b="0" lang="en-US" sz="6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ahoma"/>
              </a:rPr>
              <a:t>Basic parts of plants</a:t>
            </a:r>
            <a:endParaRPr b="0" lang="en-US" sz="5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oo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a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flo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fru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ctr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see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Root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rovide suppo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chor the plant in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ake up water and nutrients; which are in the s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ater and nutrients are needed for the plant to gr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03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Stem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22860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arry water and food through the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arries water and nutrients to lea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upports the whole pl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15861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Leave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de of the blade and the peti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eaves make the food for the plant by photosynthe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eav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 made to catch ligh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- have small openings catch and release water and 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3043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Photosynthesi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bon dioxide and water mix with the green coloring (chlorophy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utrients come through roots with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nd all mixes with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08628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lowers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mportant for making s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ttract pollinators; helps fertilize the flower which makes new fl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01600" y="1981080"/>
            <a:ext cx="274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Fruit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 of plant that holds the see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rries and protects the s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03884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2:39:55Z</dcterms:created>
  <dc:creator>Chrissy</dc:creator>
  <dc:description/>
  <dc:language>en-US</dc:language>
  <cp:lastModifiedBy>Chrissy</cp:lastModifiedBy>
  <dcterms:modified xsi:type="dcterms:W3CDTF">2008-04-03T03:14:09Z</dcterms:modified>
  <cp:revision>19</cp:revision>
  <dc:subject/>
  <dc:title>Slide 1</dc:title>
</cp:coreProperties>
</file>